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5131-8E20-4CFA-BB1D-1D4F7A8F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1196-FD35-4076-AD96-30DEF82ED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CAD2-77C5-4592-890F-1963D8A75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BB0D1-06B3-4B7D-8AA2-00F0C1CB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3998E-6482-4FA0-A122-66C54F642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47C3F-4F8E-4212-BC46-7AE70A1F4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4EAF2-6098-4EAB-842D-3DC5CD7DC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C65DD-50B1-4772-A9DD-5256E71FB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5EBF-5AFB-4B9F-B173-BE6780BDC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60928-22AF-475D-B065-1052CE028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309B5-49CE-4EBE-A4B6-E1F9E0471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E0019-CB4D-4727-821A-4A5C1A3C0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8E454-24C0-49A1-8DD6-EB11F338D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918E4-5334-486E-B3D5-7F977BDB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CB466-D3CB-487E-9D98-4E34420B4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9732-FBEC-4CE1-8DE2-C4002D109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0E76-FB33-46D3-814A-8AF5EEA3C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6AA38-5992-4B5E-9439-6B5FD750D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72292-E20A-4C30-B835-67FCBFD8C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CD2FC-8656-4210-917D-96640039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0C6BA-827F-4F94-998F-1C5B725F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8052-FDE0-4954-9A2E-516255A8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113D0-F3E7-4AA2-ADAF-5B632E87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7728-9591-4527-A68F-71054D1A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CE05-EB16-4526-8591-68F801E1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D3DE-4008-44AD-B18F-4DF0E5F4D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818D-47C5-431C-B39C-6333C5A741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64DE-4AC0-476F-B4E9-238EC9341A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of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1T20:59:02Z</dcterms:modified>
  <cp:revision>40</cp:revision>
  <dc:subject/>
  <dc:title>acids and bases</dc:title>
</cp:coreProperties>
</file>